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1652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3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EBBA-7060-4093-8C05-4A486E3E5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7920" y="739800"/>
            <a:ext cx="491976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D57-33BA-408F-8AF5-BA77F2EB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508-91D5-4DA6-931A-B7DA6C3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5D3-DBFF-4219-8965-91088E3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2C0-E72E-4DF0-A49E-14C96F88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1EA-B9F4-453C-BBCF-D081F17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41C-9048-4EDD-AEDB-2928752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A52-E79A-47B9-BECB-CD44846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4F2-7826-4E92-A124-1C6F44F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4B9-AF50-458E-A6DE-85F0C46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9C9-CBB3-4642-BC49-6BDC6A2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F96-9482-4B94-ADF2-C88059A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C5C-EB31-4B7C-9B22-A195052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12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9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880"/>
            <a:ext cx="90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2F0B65E4-88C7-4E15-818E-EFBE2DA137BE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1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Towards real-time e-VLBI operation: scheduling, monitoring  and calibrat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ibration (3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Convert adapted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handles Westerbork data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includes TSYS and GAINC tab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esults used in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1C1-D68D-40BD-8FC8-A872BD3BA7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monitoring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ostly 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most real-time callibration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fetching tools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ill some wrinkles with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C87-6869-447E-B452-ABF84A4093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Batch” mode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CFB-CE40-42CA-904F-030BF39CE5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B20-CD37-485E-9B94-B8AB54F4AA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30192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Originally written for the HP1000/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Now emulated on 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Maintained by Ed Himw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Not a traditional JIVE conc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FF1-183A-45F1-8D7A-6B3AD631E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2/3): </a:t>
            </a:r>
            <a:r>
              <a:rPr b="0" lang="en-GB" sz="3600" spc="-1" strike="noStrike">
                <a:solidFill>
                  <a:srgbClr val="333399"/>
                </a:solidFill>
                <a:latin typeface="Courier New"/>
              </a:rPr>
              <a:t>drud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 FS program used to process schedu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ustomised for individual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enu-driven, interactive FORTRAN progra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w scripted wit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ython/expec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726-E76E-4E99-A2C0-16BCC850BC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3/3): 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workflow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distribution from JIVE (rsync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processing (-&gt; SNAP fil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injection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l tested on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all at the same 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ingle dish mod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ew participants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B61-DB94-474D-8BE1-92E37287A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monit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Existing piec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eld system produces logs of 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ystem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temperatur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S includes log plotte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ogpl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odification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1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sync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fetches logs to JIVE in real-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lotter re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ultiple stations in parallel (display at JIV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ing with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dditional participants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6D6-B8C1-4F12-92A3-9389F719EF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libration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esterbork produces synthesis array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usually used for VLBI, but could b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is available “almost live”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oadmap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nd and download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data (from MS to IDI-FITS format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librat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48D-069F-42DD-BB4C-ABAECD120F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ibration (2/3): selecting dat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98800" y="284004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C9A-7971-45FD-B05E-2540A66817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